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gif" ContentType="image/gif"/>
  <Override PartName="/ppt/media/image5.jpeg" ContentType="image/jpeg"/>
  <Override PartName="/ppt/media/image23.jpeg" ContentType="image/jpeg"/>
  <Override PartName="/ppt/media/image21.gif" ContentType="image/gif"/>
  <Override PartName="/ppt/media/image19.png" ContentType="image/png"/>
  <Override PartName="/ppt/media/image20.gif" ContentType="image/gif"/>
  <Override PartName="/ppt/media/image18.gif" ContentType="image/gif"/>
  <Override PartName="/ppt/media/image17.jpeg" ContentType="image/jpeg"/>
  <Override PartName="/ppt/media/image14.gif" ContentType="image/gif"/>
  <Override PartName="/ppt/media/image1.jpeg" ContentType="image/jpeg"/>
  <Override PartName="/ppt/media/image7.jpeg" ContentType="image/jpeg"/>
  <Override PartName="/ppt/media/image22.gif" ContentType="image/gif"/>
  <Override PartName="/ppt/media/image4.jpeg" ContentType="image/jpeg"/>
  <Override PartName="/ppt/media/image13.gif" ContentType="image/gif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B358-2735-478B-8EA0-512AA674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AEF5-0699-46CB-B3FA-EF1DB087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0A8C-3E8E-4BEE-AEEE-DA4DC75D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6C0-ADA4-4569-9276-A8FAB6BD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766A-B4E6-4991-A7E6-EF12D8F8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AAB5-B8C9-44D8-9821-B974F52D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0044-9B89-473F-994F-DBB89096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BCB0-5B3B-470F-A1FA-1173378F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AB70-18E5-4E4F-98E5-FA3ECAF5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D512-0712-4E1F-9488-048D37EC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7A7F-A8A5-467E-B9BA-46924B28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C47-121B-431B-82E3-ECDCD5CA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7D20-314A-49E6-8D9E-3EB676B9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BDC7-0B86-4FE0-9822-98FAE0AD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3850-CE99-48EE-989A-7639DEC8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C9C7-162E-4F34-9EDA-AED8A4AF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2C6C-B088-42CB-8D92-FA8D56AA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69D66-D850-4C0B-BA44-3229BD8A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5586B-4FE8-4868-AB89-CF19034F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D98A7-30C7-4A25-9612-A721AD45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EEF7A-6CA9-482D-9005-F5280843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F1E9C-EECC-49F2-978A-E5B65F2A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0525-0CD4-49C7-92D8-9FCF2912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A0907-A85E-40C3-A939-C3B8ED6A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543B1-8299-4956-9D02-BCA1EB44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1CFB8-0BC5-41EB-BA5D-FAB9AED2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AD302-2538-462D-85D1-9E4B1457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F7DBA-9A90-4286-8369-068D4768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112EA-D5DD-480F-BA55-6A840D12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9B3FF-1BAF-4692-B55D-2019D48D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4B043-2C82-4749-9385-1A39B2CB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6601C-955B-4C68-8B48-82D7C3BF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369DC-E039-4F5B-A5A9-83699062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629F-0568-4789-9A47-3AA8811A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254C8-5AC2-4EA8-88D8-2A573182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C1876-2F17-406A-98D2-B6C4167B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B5FE7-8EAB-434D-A835-C8384F52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DB435-768A-4704-876E-FFB894E7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79E21-26DC-4518-992C-5339B8A7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F46C1-317B-4E8A-83B8-B78F74EE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06CA0-9852-47A8-85DD-DF5815BE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4AC70-6580-4206-8A26-AC0FAACA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833D9-CC94-4B99-8B28-74C185AC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93A1-2467-4912-8A1F-1A26A790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A011-1E79-45AF-8001-7555E497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EC18-C941-4C66-9F96-50F6E06D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FC4-81E0-44DA-9F42-E3B5A5FD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367-9AE6-40AF-BFF7-F27FB56D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D17D99-5C6F-4E32-8237-F48DC8F67DF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b8b8b"/>
                </a:solidFill>
                <a:latin typeface="Calibri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99840B-27EF-4EEF-97AB-729D1BE1F04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88E10C-8341-4D17-87AA-3D02A412C2F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B53156-E63C-4554-ABD1-D3F0C9A14AF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Содержимое 3" descr="image.gif"/>
          <p:cNvPicPr/>
          <p:nvPr/>
        </p:nvPicPr>
        <p:blipFill>
          <a:blip r:embed="rId1"/>
          <a:stretch/>
        </p:blipFill>
        <p:spPr>
          <a:xfrm>
            <a:off x="1785960" y="1643040"/>
            <a:ext cx="5880960" cy="28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c00000"/>
                </a:solidFill>
                <a:latin typeface="Informal Roman"/>
              </a:rPr>
              <a:t>Guess a riddle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81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холм подняться я решил. Холм по-английски это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Содержимое 6"/>
          <p:cNvSpPr/>
          <p:nvPr/>
        </p:nvSpPr>
        <p:spPr>
          <a:xfrm>
            <a:off x="457200" y="2500200"/>
            <a:ext cx="4039920" cy="3164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92d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ился в поле. Все болит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поле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Содержимое 7"/>
          <p:cNvSpPr/>
          <p:nvPr/>
        </p:nvSpPr>
        <p:spPr>
          <a:xfrm>
            <a:off x="4645080" y="263484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eeece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3">
                    <a:lumMod val="50000"/>
                  </a:schemeClr>
                </a:solidFill>
                <a:latin typeface="Arial Black"/>
              </a:rPr>
              <a:t>Make up sentences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22160" y="192888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a lot of/ hills/ there are/ in the/ green/ country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in/ a long/ your/ there is/ town/ river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chemeClr val="accent4">
                    <a:lumMod val="75000"/>
                  </a:schemeClr>
                </a:solidFill>
                <a:latin typeface="Chiller"/>
              </a:rPr>
              <a:t>Divide the descriptions into 2 columns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Содержимое 3"/>
          <p:cNvGraphicFramePr/>
          <p:nvPr/>
        </p:nvGraphicFramePr>
        <p:xfrm>
          <a:off x="457200" y="1600200"/>
          <a:ext cx="8229240" cy="1971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TextBox 4"/>
          <p:cNvSpPr/>
          <p:nvPr/>
        </p:nvSpPr>
        <p:spPr>
          <a:xfrm>
            <a:off x="714240" y="4357800"/>
            <a:ext cx="38574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428760" y="3790800"/>
            <a:ext cx="385740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It is big. It is noisy. You can see a lot of cars, buses and trams in the str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357120" y="4933800"/>
            <a:ext cx="400032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It is quiet. It is peaceful. It is green. You can see a lot of apple trees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071960" y="3790800"/>
            <a:ext cx="478584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The streets are wide and long. There are many people in the streets. They are always bu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4714920" y="4786200"/>
            <a:ext cx="42145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214880" y="4862520"/>
            <a:ext cx="457164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There are a lot of buildings. The houses are big and tall. You can see many bridge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643120" y="5861160"/>
            <a:ext cx="478584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 The streets are small. There are many animals in the str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07407E-006 L -2.77778E-006 -0.30463 E">
                                      <p:cBhvr>
                                        <p:cTn id="16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3 -0.03032 L 0.39184 -0.46088 E">
                                      <p:cBhvr>
                                        <p:cTn id="1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-0.42048 -0.18912 E">
                                      <p:cBhvr>
                                        <p:cTn id="173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-0.45504 -0.24051 E">
                                      <p:cBhvr>
                                        <p:cTn id="17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47 -0.03056 L 0.17344 -0.38473 E">
                                      <p:cBhvr>
                                        <p:cTn id="18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040" cy="85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1">
                    <a:lumMod val="75000"/>
                  </a:schemeClr>
                </a:solidFill>
                <a:latin typeface="Monotype Corsiva"/>
              </a:rPr>
              <a:t>Mark the correct sentence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14240" y="1214280"/>
            <a:ext cx="7772040" cy="514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lot of cow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lot of cows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is a lot of cows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cow in the country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cap="all">
                <a:solidFill>
                  <a:schemeClr val="accent1">
                    <a:lumMod val="50000"/>
                  </a:schemeClr>
                </a:solidFill>
                <a:latin typeface="Juice ITC"/>
              </a:rPr>
              <a:t>Complete the sentences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1571760"/>
            <a:ext cx="7772040" cy="39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… a lot (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вец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 in the country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… a lot of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рыбы) 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the river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a lot of gardens in ou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больших городах)?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a lot of shops in ou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больших городах)?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2">
                    <a:lumMod val="75000"/>
                  </a:schemeClr>
                </a:solidFill>
                <a:latin typeface="Corbel"/>
              </a:rPr>
              <a:t>Mark the singular noun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22160" y="2000160"/>
            <a:ext cx="7772040" cy="35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ople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n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9862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6">
                    <a:lumMod val="50000"/>
                  </a:schemeClr>
                </a:solidFill>
                <a:latin typeface="Chiller"/>
              </a:rPr>
              <a:t>Which word is spelt in the wrong way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2160" y="1714320"/>
            <a:ext cx="7772040" cy="32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al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ver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ry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rm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7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am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ve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is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is not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house is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it because …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2" descr="E:\Английский язык\Фотографии\мультгерои\image28.gif"/>
          <p:cNvPicPr/>
          <p:nvPr/>
        </p:nvPicPr>
        <p:blipFill>
          <a:blip r:embed="rId1"/>
          <a:stretch/>
        </p:blipFill>
        <p:spPr>
          <a:xfrm>
            <a:off x="4643280" y="428760"/>
            <a:ext cx="2999880" cy="299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E:\Английский язык\Фотографии\мультгерои\нюша 2.png"/>
          <p:cNvPicPr/>
          <p:nvPr/>
        </p:nvPicPr>
        <p:blipFill>
          <a:blip r:embed="rId2"/>
          <a:stretch/>
        </p:blipFill>
        <p:spPr>
          <a:xfrm>
            <a:off x="4857840" y="2214720"/>
            <a:ext cx="3936240" cy="4214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E:\Английский язык\Фотографии\мультгерои\матроскин.gif"/>
          <p:cNvPicPr/>
          <p:nvPr/>
        </p:nvPicPr>
        <p:blipFill>
          <a:blip r:embed="rId3"/>
          <a:stretch/>
        </p:blipFill>
        <p:spPr>
          <a:xfrm>
            <a:off x="4714920" y="928800"/>
            <a:ext cx="3214440" cy="3214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E:\Английский язык\Фотографии\мультгерои\parrot kesha.gif"/>
          <p:cNvPicPr/>
          <p:nvPr/>
        </p:nvPicPr>
        <p:blipFill>
          <a:blip r:embed="rId4"/>
          <a:stretch/>
        </p:blipFill>
        <p:spPr>
          <a:xfrm>
            <a:off x="5000760" y="2286000"/>
            <a:ext cx="342396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Содержимое 3" descr="thank_you_011.gif"/>
          <p:cNvPicPr/>
          <p:nvPr/>
        </p:nvPicPr>
        <p:blipFill>
          <a:blip r:embed="rId1"/>
          <a:stretch/>
        </p:blipFill>
        <p:spPr>
          <a:xfrm>
            <a:off x="2143080" y="1285920"/>
            <a:ext cx="49716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Содержимое 3" descr="good bye 13.jpg"/>
          <p:cNvPicPr/>
          <p:nvPr/>
        </p:nvPicPr>
        <p:blipFill>
          <a:blip r:embed="rId1"/>
          <a:stretch/>
        </p:blipFill>
        <p:spPr>
          <a:xfrm>
            <a:off x="2143080" y="928800"/>
            <a:ext cx="46432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558ed5"/>
                </a:solidFill>
                <a:latin typeface="Cooper Black"/>
              </a:rPr>
              <a:t>Country 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and</a:t>
            </a:r>
            <a:r>
              <a:rPr b="0" lang="en-US" sz="4400" spc="-1" strike="noStrike">
                <a:solidFill>
                  <a:srgbClr val="558ed5"/>
                </a:solidFill>
                <a:latin typeface="Cooper Black"/>
              </a:rPr>
              <a:t> </a:t>
            </a:r>
            <a:r>
              <a:rPr b="0" lang="en-US" sz="4400" spc="-1" strike="noStrike">
                <a:solidFill>
                  <a:schemeClr val="accent5">
                    <a:lumMod val="50000"/>
                  </a:schemeClr>
                </a:solidFill>
                <a:latin typeface="Cooper Black"/>
              </a:rPr>
              <a:t>City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Содержимое 3" descr="city_country.jpg"/>
          <p:cNvPicPr/>
          <p:nvPr/>
        </p:nvPicPr>
        <p:blipFill>
          <a:blip r:embed="rId1"/>
          <a:stretch/>
        </p:blipFill>
        <p:spPr>
          <a:xfrm>
            <a:off x="1523880" y="1720080"/>
            <a:ext cx="6095520" cy="42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cap="all">
                <a:solidFill>
                  <a:srgbClr val="17375e"/>
                </a:solidFill>
                <a:latin typeface="Chiller"/>
              </a:rPr>
              <a:t>Choose the appropriate word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10717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ouses in the city are very …. </a:t>
            </a: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small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angry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windy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all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icture 2"/>
          <p:cNvSpPr/>
          <p:nvPr/>
        </p:nvSpPr>
        <p:spPr>
          <a:xfrm>
            <a:off x="428760" y="3429000"/>
            <a:ext cx="3428640" cy="2115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1f497d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4">
                    <a:lumMod val="75000"/>
                  </a:schemeClr>
                </a:solidFill>
                <a:latin typeface="Calibri"/>
              </a:rPr>
              <a:t>Which words are connected with </a:t>
            </a:r>
            <a:r>
              <a:rPr b="1" lang="en-US" sz="4400" spc="-1" strike="noStrike" cap="all">
                <a:solidFill>
                  <a:schemeClr val="accent1">
                    <a:lumMod val="75000"/>
                  </a:schemeClr>
                </a:solidFill>
                <a:latin typeface="Chiller"/>
              </a:rPr>
              <a:t>a city</a:t>
            </a:r>
            <a:r>
              <a:rPr b="1" lang="en-US" sz="4000" spc="-1" strike="noStrike" cap="all">
                <a:solidFill>
                  <a:schemeClr val="accent4">
                    <a:lumMod val="75000"/>
                  </a:schemeClr>
                </a:solidFill>
                <a:latin typeface="Calibri"/>
              </a:rPr>
              <a:t>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2160" y="1714320"/>
            <a:ext cx="7772040" cy="42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dge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w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ar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s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icture 2"/>
          <p:cNvSpPr/>
          <p:nvPr/>
        </p:nvSpPr>
        <p:spPr>
          <a:xfrm>
            <a:off x="428760" y="3500280"/>
            <a:ext cx="3571560" cy="20415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eeece1">
                <a:lumMod val="2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70c0"/>
                </a:solidFill>
                <a:latin typeface="Cooper Black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мотри как здесь красиво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ща там, здесь речка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Содержимое 6"/>
          <p:cNvSpPr/>
          <p:nvPr/>
        </p:nvSpPr>
        <p:spPr>
          <a:xfrm>
            <a:off x="457200" y="2635560"/>
            <a:ext cx="4039920" cy="3029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4f81bd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5080" y="1285920"/>
            <a:ext cx="4041360" cy="88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б знали, сообщаю вам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ферма – это …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Содержимое 7"/>
          <p:cNvSpPr/>
          <p:nvPr/>
        </p:nvSpPr>
        <p:spPr>
          <a:xfrm>
            <a:off x="4714920" y="2286000"/>
            <a:ext cx="3903480" cy="3951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8064a2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030a0"/>
                </a:solidFill>
                <a:latin typeface="Arial Rounded MT Bold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рковь хочет всем помочь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рковь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Содержимое 6"/>
          <p:cNvSpPr/>
          <p:nvPr/>
        </p:nvSpPr>
        <p:spPr>
          <a:xfrm>
            <a:off x="714240" y="2500200"/>
            <a:ext cx="3357360" cy="3873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1f497d">
                <a:lumMod val="60000"/>
                <a:lumOff val="4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 наш город посетите!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род это будет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Содержимое 7"/>
          <p:cNvSpPr/>
          <p:nvPr/>
        </p:nvSpPr>
        <p:spPr>
          <a:xfrm>
            <a:off x="4572000" y="271476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4f81bd">
                <a:lumMod val="40000"/>
                <a:lumOff val="6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4a452a"/>
                </a:solidFill>
                <a:latin typeface="Berlin Sans FB Demi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399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деревню ехать очень рад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ревня – это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Содержимое 6" descr="8ZX4D00Z.jpg"/>
          <p:cNvPicPr/>
          <p:nvPr/>
        </p:nvPicPr>
        <p:blipFill>
          <a:blip r:embed="rId1"/>
          <a:stretch/>
        </p:blipFill>
        <p:spPr>
          <a:xfrm>
            <a:off x="427320" y="2500200"/>
            <a:ext cx="4073040" cy="32785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5080" y="1357200"/>
            <a:ext cx="4041360" cy="99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рень в саду цветет. Прохлада. Сад по-английски – это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Содержимое 7"/>
          <p:cNvSpPr/>
          <p:nvPr/>
        </p:nvSpPr>
        <p:spPr>
          <a:xfrm>
            <a:off x="4645080" y="263484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Cooper Black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ный вам задам вопрос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ак назвали лошадь?» -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Содержимое 6" descr="905478307.gif"/>
          <p:cNvPicPr/>
          <p:nvPr/>
        </p:nvPicPr>
        <p:blipFill>
          <a:blip r:embed="rId1"/>
          <a:stretch/>
        </p:blipFill>
        <p:spPr>
          <a:xfrm>
            <a:off x="457200" y="2594520"/>
            <a:ext cx="4039920" cy="31118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свою Буренку называю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ушка – коровушка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Содержимое 7" descr="1944.gif"/>
          <p:cNvPicPr/>
          <p:nvPr/>
        </p:nvPicPr>
        <p:blipFill>
          <a:blip r:embed="rId2"/>
          <a:stretch/>
        </p:blipFill>
        <p:spPr>
          <a:xfrm>
            <a:off x="5000760" y="257184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2">
                    <a:lumMod val="75000"/>
                  </a:schemeClr>
                </a:solidFill>
                <a:latin typeface="Harlow Solid Italic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Char char="-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рисуешь доченька?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Char char="-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мочка, смотри! Я рисую дерево, по – английски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одержимое 6" descr="tree2.gif"/>
          <p:cNvPicPr/>
          <p:nvPr/>
        </p:nvPicPr>
        <p:blipFill>
          <a:blip r:embed="rId1"/>
          <a:stretch/>
        </p:blipFill>
        <p:spPr>
          <a:xfrm>
            <a:off x="642960" y="2286000"/>
            <a:ext cx="3492000" cy="3951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5080" y="1357200"/>
            <a:ext cx="4041360" cy="81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у тропинки стадо пас. Тропинка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Содержимое 7"/>
          <p:cNvSpPr/>
          <p:nvPr/>
        </p:nvSpPr>
        <p:spPr>
          <a:xfrm>
            <a:off x="5214960" y="2286000"/>
            <a:ext cx="2642760" cy="3951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9bbb59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  <Words>457</Words>
  <Paragraphs>7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13-04-29T21:30:40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